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7.png" ContentType="image/png"/>
  <Override PartName="/ppt/media/image37.png" ContentType="image/png"/>
  <Override PartName="/ppt/media/image43.png" ContentType="image/png"/>
  <Override PartName="/ppt/media/image55.png" ContentType="image/png"/>
  <Override PartName="/ppt/media/image45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4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772-6736-4656-A812-A8D34796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16D-7D0D-4B37-9EBD-D11098FA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033-A870-47BF-AE5B-EE69567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7E0-8F5D-45EE-A171-035110A5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C25-00C8-4125-ADF6-A9468452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7769-18FF-4059-82FE-60FF288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BF4-D18D-4F93-9695-1FB0120C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017-F4E9-4E75-8E8B-F325609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6435-5B5D-4913-B7C4-BDC43D8E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994-2586-45E5-9977-34E5ADAD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D48-6364-4B70-8049-0FEEC120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89D-477B-4B3E-85FB-52D130C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6DA2-D8C6-42FC-8A92-7A72DAD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662-AB5A-4E4D-B9F7-9CA18ED6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2C4-6086-41EA-AACE-57D0134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276-A9C9-4171-B04E-CE01F790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EA77-70D6-4FFC-9503-83398E6E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B5B-5984-4CB5-9DEC-2F39237C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CD3-9261-4709-8B0A-C7B436A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992-8F86-4A00-8EF8-87376D7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9FA-5FCE-4428-B25F-9E0914F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095-BB6F-4567-9949-BFCDB44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EB1-A102-4A8A-90D8-FAB19A4A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6F7-301A-4A70-B756-22E670F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4C0-4932-4B0B-8114-453FFAE03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3ADE-21FE-4993-A8A1-018445CF9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6.png"/><Relationship Id="rId6" Type="http://schemas.openxmlformats.org/officeDocument/2006/relationships/image" Target="../media/image39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5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itle" descr=""/>
          <p:cNvPicPr/>
          <p:nvPr/>
        </p:nvPicPr>
        <p:blipFill>
          <a:blip r:embed="rId1"/>
          <a:stretch/>
        </p:blipFill>
        <p:spPr>
          <a:xfrm>
            <a:off x="1066680" y="1806480"/>
            <a:ext cx="6782040" cy="5051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905120" y="457200"/>
            <a:ext cx="647676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eproduction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 rot="19380000">
            <a:off x="228240" y="228240"/>
            <a:ext cx="2895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u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en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ected during copulation for insertion into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lation of arterioles causes the erectile tissue of penis become turg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 of epididymis 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men is squeezed from the penis to the top of vag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ja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female%20reproductive%20system%20f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87" name="female%20reproductive%20system%20f1" descr=""/>
          <p:cNvPicPr/>
          <p:nvPr/>
        </p:nvPicPr>
        <p:blipFill>
          <a:blip r:embed="rId2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pic>
        <p:nvPicPr>
          <p:cNvPr id="188" name="female%20reproductive%20system%20f2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89" name="female%20reproductive%20system%20f3" descr=""/>
          <p:cNvPicPr/>
          <p:nvPr/>
        </p:nvPicPr>
        <p:blipFill>
          <a:blip r:embed="rId4"/>
          <a:stretch/>
        </p:blipFill>
        <p:spPr>
          <a:xfrm>
            <a:off x="2666880" y="1219320"/>
            <a:ext cx="6477120" cy="5597280"/>
          </a:xfrm>
          <a:prstGeom prst="rect">
            <a:avLst/>
          </a:prstGeom>
          <a:ln w="0">
            <a:noFill/>
          </a:ln>
        </p:spPr>
      </p:pic>
      <p:pic>
        <p:nvPicPr>
          <p:cNvPr id="190" name="female%20reproductive%20system%20f3a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1" name="female%20reproductive%20system%20f4" descr=""/>
          <p:cNvPicPr/>
          <p:nvPr/>
        </p:nvPicPr>
        <p:blipFill>
          <a:blip r:embed="rId6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2" name="female%20reproductive%20system%20f5" descr=""/>
          <p:cNvPicPr/>
          <p:nvPr/>
        </p:nvPicPr>
        <p:blipFill>
          <a:blip r:embed="rId7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3" name="female%20reproductive%20system%20f6" descr=""/>
          <p:cNvPicPr/>
          <p:nvPr/>
        </p:nvPicPr>
        <p:blipFill>
          <a:blip r:embed="rId8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pic>
        <p:nvPicPr>
          <p:cNvPr id="194" name="female%20reproductive%20system%20f7" descr=""/>
          <p:cNvPicPr/>
          <p:nvPr/>
        </p:nvPicPr>
        <p:blipFill>
          <a:blip r:embed="rId9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5" name="female%20reproductive%20system%20f8" descr=""/>
          <p:cNvPicPr/>
          <p:nvPr/>
        </p:nvPicPr>
        <p:blipFill>
          <a:blip r:embed="rId10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6" name="female%20reproductive%20system%20f9" descr=""/>
          <p:cNvPicPr/>
          <p:nvPr/>
        </p:nvPicPr>
        <p:blipFill>
          <a:blip r:embed="rId11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7" name="female%20reproductive%20system%20f10" descr=""/>
          <p:cNvPicPr/>
          <p:nvPr/>
        </p:nvPicPr>
        <p:blipFill>
          <a:blip r:embed="rId12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9528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07" h="21600">
                <a:moveTo>
                  <a:pt x="24297" y="7301"/>
                </a:moveTo>
                <a:lnTo>
                  <a:pt x="25211" y="7301"/>
                </a:lnTo>
                <a:lnTo>
                  <a:pt x="25594" y="7667"/>
                </a:lnTo>
                <a:lnTo>
                  <a:pt x="34803" y="7667"/>
                </a:lnTo>
                <a:lnTo>
                  <a:pt x="35360" y="8224"/>
                </a:lnTo>
                <a:lnTo>
                  <a:pt x="35360" y="8772"/>
                </a:lnTo>
                <a:lnTo>
                  <a:pt x="37205" y="8772"/>
                </a:lnTo>
                <a:lnTo>
                  <a:pt x="37570" y="8224"/>
                </a:lnTo>
                <a:lnTo>
                  <a:pt x="38310" y="8224"/>
                </a:lnTo>
                <a:lnTo>
                  <a:pt x="38310" y="13376"/>
                </a:lnTo>
                <a:lnTo>
                  <a:pt x="37570" y="13376"/>
                </a:lnTo>
                <a:lnTo>
                  <a:pt x="37205" y="12828"/>
                </a:lnTo>
                <a:lnTo>
                  <a:pt x="35360" y="12828"/>
                </a:lnTo>
                <a:lnTo>
                  <a:pt x="35360" y="14107"/>
                </a:lnTo>
                <a:lnTo>
                  <a:pt x="25777" y="14107"/>
                </a:lnTo>
                <a:lnTo>
                  <a:pt x="25777" y="9877"/>
                </a:lnTo>
                <a:lnTo>
                  <a:pt x="25594" y="9877"/>
                </a:lnTo>
                <a:lnTo>
                  <a:pt x="25211" y="10243"/>
                </a:lnTo>
                <a:lnTo>
                  <a:pt x="24297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2670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5812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95480"/>
            <a:ext cx="12114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295280"/>
            <a:ext cx="13636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209680"/>
            <a:ext cx="11350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2514600"/>
            <a:ext cx="99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600200"/>
            <a:ext cx="7621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4572000"/>
            <a:ext cx="33526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88620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200400"/>
            <a:ext cx="32004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3794"/>
                </a:moveTo>
                <a:lnTo>
                  <a:pt x="29677" y="10800"/>
                </a:lnTo>
                <a:lnTo>
                  <a:pt x="1566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Ov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female gametes (ova/eg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female sex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i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ies the ovum forwar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ating action of the cilia on its inner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raction of muscles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ease of an ovum from an ov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7301"/>
                </a:moveTo>
                <a:lnTo>
                  <a:pt x="13847" y="7301"/>
                </a:lnTo>
                <a:lnTo>
                  <a:pt x="14230" y="7667"/>
                </a:lnTo>
                <a:lnTo>
                  <a:pt x="23439" y="7667"/>
                </a:lnTo>
                <a:lnTo>
                  <a:pt x="23996" y="8224"/>
                </a:lnTo>
                <a:lnTo>
                  <a:pt x="23996" y="8772"/>
                </a:lnTo>
                <a:lnTo>
                  <a:pt x="25841" y="8772"/>
                </a:lnTo>
                <a:lnTo>
                  <a:pt x="26207" y="8224"/>
                </a:lnTo>
                <a:lnTo>
                  <a:pt x="26946" y="8224"/>
                </a:lnTo>
                <a:lnTo>
                  <a:pt x="26946" y="13376"/>
                </a:lnTo>
                <a:lnTo>
                  <a:pt x="26207" y="13376"/>
                </a:lnTo>
                <a:lnTo>
                  <a:pt x="25841" y="12828"/>
                </a:lnTo>
                <a:lnTo>
                  <a:pt x="23996" y="12828"/>
                </a:lnTo>
                <a:lnTo>
                  <a:pt x="23996" y="14107"/>
                </a:lnTo>
                <a:lnTo>
                  <a:pt x="14413" y="14107"/>
                </a:lnTo>
                <a:lnTo>
                  <a:pt x="14413" y="9877"/>
                </a:lnTo>
                <a:lnTo>
                  <a:pt x="14230" y="9877"/>
                </a:lnTo>
                <a:lnTo>
                  <a:pt x="13847" y="10243"/>
                </a:lnTo>
                <a:lnTo>
                  <a:pt x="12933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5562720"/>
            <a:ext cx="1905120" cy="990360"/>
          </a:xfrm>
          <a:custGeom>
            <a:avLst/>
            <a:gdLst>
              <a:gd name="textAreaLeft" fmla="*/ 64080 w 1905120"/>
              <a:gd name="textAreaRight" fmla="*/ 1841040 w 19051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1544" h="21600">
                <a:moveTo>
                  <a:pt x="0" y="0"/>
                </a:moveTo>
                <a:lnTo>
                  <a:pt x="41544" y="0"/>
                </a:lnTo>
                <a:lnTo>
                  <a:pt x="41544" y="21600"/>
                </a:lnTo>
                <a:lnTo>
                  <a:pt x="0" y="21600"/>
                </a:lnTo>
                <a:close/>
              </a:path>
              <a:path fill="lightenLess" w="41544" h="21600">
                <a:moveTo>
                  <a:pt x="0" y="0"/>
                </a:moveTo>
                <a:lnTo>
                  <a:pt x="41544" y="0"/>
                </a:lnTo>
                <a:lnTo>
                  <a:pt x="40144" y="1400"/>
                </a:lnTo>
                <a:lnTo>
                  <a:pt x="1400" y="1400"/>
                </a:lnTo>
                <a:close/>
              </a:path>
              <a:path fill="darken" w="41544" h="21600">
                <a:moveTo>
                  <a:pt x="41544" y="0"/>
                </a:moveTo>
                <a:lnTo>
                  <a:pt x="41544" y="21600"/>
                </a:lnTo>
                <a:lnTo>
                  <a:pt x="40144" y="20200"/>
                </a:lnTo>
                <a:lnTo>
                  <a:pt x="40144" y="1400"/>
                </a:lnTo>
                <a:close/>
              </a:path>
              <a:path fill="darkenLess" w="41544" h="21600">
                <a:moveTo>
                  <a:pt x="41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44" y="20200"/>
                </a:lnTo>
                <a:close/>
              </a:path>
              <a:path fill="lighten" w="41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44" h="21600">
                <a:moveTo>
                  <a:pt x="13765" y="7301"/>
                </a:moveTo>
                <a:lnTo>
                  <a:pt x="14679" y="7301"/>
                </a:lnTo>
                <a:lnTo>
                  <a:pt x="15062" y="7667"/>
                </a:lnTo>
                <a:lnTo>
                  <a:pt x="24271" y="7667"/>
                </a:lnTo>
                <a:lnTo>
                  <a:pt x="24828" y="8224"/>
                </a:lnTo>
                <a:lnTo>
                  <a:pt x="24828" y="8772"/>
                </a:lnTo>
                <a:lnTo>
                  <a:pt x="26673" y="8772"/>
                </a:lnTo>
                <a:lnTo>
                  <a:pt x="27039" y="8224"/>
                </a:lnTo>
                <a:lnTo>
                  <a:pt x="27778" y="8224"/>
                </a:lnTo>
                <a:lnTo>
                  <a:pt x="27778" y="13376"/>
                </a:lnTo>
                <a:lnTo>
                  <a:pt x="27039" y="13376"/>
                </a:lnTo>
                <a:lnTo>
                  <a:pt x="26673" y="12828"/>
                </a:lnTo>
                <a:lnTo>
                  <a:pt x="24828" y="12828"/>
                </a:lnTo>
                <a:lnTo>
                  <a:pt x="24828" y="14107"/>
                </a:lnTo>
                <a:lnTo>
                  <a:pt x="15245" y="14107"/>
                </a:lnTo>
                <a:lnTo>
                  <a:pt x="15245" y="9877"/>
                </a:lnTo>
                <a:lnTo>
                  <a:pt x="15062" y="9877"/>
                </a:lnTo>
                <a:lnTo>
                  <a:pt x="14679" y="10243"/>
                </a:lnTo>
                <a:lnTo>
                  <a:pt x="13765" y="1024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nstrual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in about 28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terine lining becomes thickened 14 days after ovulation to prepare for the fertilized ovum to implant in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hickness%20of%20uterine%20wall%203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052800" cy="3809880"/>
          </a:xfrm>
          <a:prstGeom prst="rect">
            <a:avLst/>
          </a:prstGeom>
          <a:ln w="0">
            <a:noFill/>
          </a:ln>
        </p:spPr>
      </p:pic>
      <p:pic>
        <p:nvPicPr>
          <p:cNvPr id="223" name="thickness%20of%20uterine%20wall%202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nstrual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1 -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struation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lining decreases in thickness to a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thickness%20of%20uterine%20wall%201" descr=""/>
          <p:cNvPicPr/>
          <p:nvPr/>
        </p:nvPicPr>
        <p:blipFill>
          <a:blip r:embed="rId3"/>
          <a:stretch/>
        </p:blipFill>
        <p:spPr>
          <a:xfrm>
            <a:off x="299880" y="3048120"/>
            <a:ext cx="179892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6 -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ing becomes thicker with increased 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y 14 : ov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14 -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ing remains thick to ready for implantation of fertilized ov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mplantation of fertilization ov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lining breaks down; menstruation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thickness%20of%20uterine%20wall%204" descr=""/>
          <p:cNvPicPr/>
          <p:nvPr/>
        </p:nvPicPr>
        <p:blipFill>
          <a:blip r:embed="rId4"/>
          <a:stretch/>
        </p:blipFill>
        <p:spPr>
          <a:xfrm>
            <a:off x="7848720" y="3048120"/>
            <a:ext cx="1033200" cy="3809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95880" y="228600"/>
            <a:ext cx="2743200" cy="914400"/>
          </a:xfrm>
          <a:custGeom>
            <a:avLst/>
            <a:gdLst>
              <a:gd name="textAreaLeft" fmla="*/ 59040 w 2743200"/>
              <a:gd name="textAreaRight" fmla="*/ 2684160 w 2743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783" h="21600">
                <a:moveTo>
                  <a:pt x="0" y="0"/>
                </a:moveTo>
                <a:lnTo>
                  <a:pt x="64783" y="0"/>
                </a:lnTo>
                <a:lnTo>
                  <a:pt x="64783" y="21600"/>
                </a:lnTo>
                <a:lnTo>
                  <a:pt x="0" y="21600"/>
                </a:lnTo>
                <a:close/>
              </a:path>
              <a:path fill="lightenLess" w="64783" h="21600">
                <a:moveTo>
                  <a:pt x="0" y="0"/>
                </a:moveTo>
                <a:lnTo>
                  <a:pt x="64783" y="0"/>
                </a:lnTo>
                <a:lnTo>
                  <a:pt x="63383" y="1400"/>
                </a:lnTo>
                <a:lnTo>
                  <a:pt x="1400" y="1400"/>
                </a:lnTo>
                <a:close/>
              </a:path>
              <a:path fill="darken" w="64783" h="21600">
                <a:moveTo>
                  <a:pt x="64783" y="0"/>
                </a:moveTo>
                <a:lnTo>
                  <a:pt x="64783" y="21600"/>
                </a:lnTo>
                <a:lnTo>
                  <a:pt x="63383" y="20200"/>
                </a:lnTo>
                <a:lnTo>
                  <a:pt x="63383" y="1400"/>
                </a:lnTo>
                <a:close/>
              </a:path>
              <a:path fill="darkenLess" w="64783" h="21600">
                <a:moveTo>
                  <a:pt x="64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3" y="20200"/>
                </a:lnTo>
                <a:close/>
              </a:path>
              <a:path fill="lighten" w="64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3" h="21600">
                <a:moveTo>
                  <a:pt x="25385" y="7301"/>
                </a:moveTo>
                <a:lnTo>
                  <a:pt x="26299" y="7301"/>
                </a:lnTo>
                <a:lnTo>
                  <a:pt x="26682" y="7667"/>
                </a:lnTo>
                <a:lnTo>
                  <a:pt x="35890" y="7667"/>
                </a:lnTo>
                <a:lnTo>
                  <a:pt x="36447" y="8224"/>
                </a:lnTo>
                <a:lnTo>
                  <a:pt x="36447" y="8772"/>
                </a:lnTo>
                <a:lnTo>
                  <a:pt x="38293" y="8772"/>
                </a:lnTo>
                <a:lnTo>
                  <a:pt x="38658" y="8224"/>
                </a:lnTo>
                <a:lnTo>
                  <a:pt x="39398" y="8224"/>
                </a:lnTo>
                <a:lnTo>
                  <a:pt x="39398" y="13376"/>
                </a:lnTo>
                <a:lnTo>
                  <a:pt x="38658" y="13376"/>
                </a:lnTo>
                <a:lnTo>
                  <a:pt x="38293" y="12828"/>
                </a:lnTo>
                <a:lnTo>
                  <a:pt x="36447" y="12828"/>
                </a:lnTo>
                <a:lnTo>
                  <a:pt x="36447" y="14107"/>
                </a:lnTo>
                <a:lnTo>
                  <a:pt x="26865" y="14107"/>
                </a:lnTo>
                <a:lnTo>
                  <a:pt x="26865" y="9877"/>
                </a:lnTo>
                <a:lnTo>
                  <a:pt x="26682" y="9877"/>
                </a:lnTo>
                <a:lnTo>
                  <a:pt x="26299" y="10243"/>
                </a:lnTo>
                <a:lnTo>
                  <a:pt x="25385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n change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erine li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ts Happened after Fertil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um is fertilized at the ovi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tilized ovum is carried to the uteru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ating cilia on the inner wall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raction of muscles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reaching the uterus, the fertilized ovum fixed firmly onto the thick uterine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la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of Human Foe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embryo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105520" cy="4713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48120" y="281952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1906920" y="2514600"/>
            <a:ext cx="11484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3276720"/>
            <a:ext cx="3276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288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96252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8120" y="3657600"/>
            <a:ext cx="14655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410080" y="3885840"/>
            <a:ext cx="53352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7240" y="4343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18148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47242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1680" y="48769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n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4647960"/>
            <a:ext cx="152424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560" y="5410080"/>
            <a:ext cx="23068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niotic fl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6019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0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0" y="20200"/>
                </a:lnTo>
                <a:lnTo>
                  <a:pt x="55290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0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90" h="21600">
                <a:moveTo>
                  <a:pt x="21339" y="3794"/>
                </a:moveTo>
                <a:lnTo>
                  <a:pt x="35352" y="10800"/>
                </a:lnTo>
                <a:lnTo>
                  <a:pt x="21339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6019920"/>
            <a:ext cx="2210040" cy="838080"/>
          </a:xfrm>
          <a:custGeom>
            <a:avLst/>
            <a:gdLst>
              <a:gd name="textAreaLeft" fmla="*/ 54000 w 2210040"/>
              <a:gd name="textAreaRight" fmla="*/ 2156040 w 2210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45" h="21600">
                <a:moveTo>
                  <a:pt x="0" y="0"/>
                </a:moveTo>
                <a:lnTo>
                  <a:pt x="56945" y="0"/>
                </a:lnTo>
                <a:lnTo>
                  <a:pt x="56945" y="21600"/>
                </a:lnTo>
                <a:lnTo>
                  <a:pt x="0" y="21600"/>
                </a:lnTo>
                <a:close/>
              </a:path>
              <a:path fill="lightenLess" w="56945" h="21600">
                <a:moveTo>
                  <a:pt x="0" y="0"/>
                </a:moveTo>
                <a:lnTo>
                  <a:pt x="56945" y="0"/>
                </a:lnTo>
                <a:lnTo>
                  <a:pt x="55545" y="1400"/>
                </a:lnTo>
                <a:lnTo>
                  <a:pt x="1400" y="1400"/>
                </a:lnTo>
                <a:close/>
              </a:path>
              <a:path fill="darken" w="56945" h="21600">
                <a:moveTo>
                  <a:pt x="56945" y="0"/>
                </a:moveTo>
                <a:lnTo>
                  <a:pt x="56945" y="21600"/>
                </a:lnTo>
                <a:lnTo>
                  <a:pt x="55545" y="20200"/>
                </a:lnTo>
                <a:lnTo>
                  <a:pt x="55545" y="1400"/>
                </a:lnTo>
                <a:close/>
              </a:path>
              <a:path fill="darkenLess" w="56945" h="21600">
                <a:moveTo>
                  <a:pt x="56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45" y="20200"/>
                </a:lnTo>
                <a:close/>
              </a:path>
              <a:path fill="lighten" w="56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45" h="21600">
                <a:moveTo>
                  <a:pt x="21466" y="7301"/>
                </a:moveTo>
                <a:lnTo>
                  <a:pt x="22380" y="7301"/>
                </a:lnTo>
                <a:lnTo>
                  <a:pt x="22763" y="7667"/>
                </a:lnTo>
                <a:lnTo>
                  <a:pt x="31971" y="7667"/>
                </a:lnTo>
                <a:lnTo>
                  <a:pt x="32528" y="8224"/>
                </a:lnTo>
                <a:lnTo>
                  <a:pt x="32528" y="8772"/>
                </a:lnTo>
                <a:lnTo>
                  <a:pt x="34373" y="8772"/>
                </a:lnTo>
                <a:lnTo>
                  <a:pt x="34739" y="8224"/>
                </a:lnTo>
                <a:lnTo>
                  <a:pt x="35479" y="8224"/>
                </a:lnTo>
                <a:lnTo>
                  <a:pt x="35479" y="13376"/>
                </a:lnTo>
                <a:lnTo>
                  <a:pt x="34739" y="13376"/>
                </a:lnTo>
                <a:lnTo>
                  <a:pt x="34373" y="12828"/>
                </a:lnTo>
                <a:lnTo>
                  <a:pt x="32528" y="12828"/>
                </a:lnTo>
                <a:lnTo>
                  <a:pt x="32528" y="14107"/>
                </a:lnTo>
                <a:lnTo>
                  <a:pt x="22945" y="14107"/>
                </a:lnTo>
                <a:lnTo>
                  <a:pt x="22945" y="9877"/>
                </a:lnTo>
                <a:lnTo>
                  <a:pt x="22763" y="9877"/>
                </a:lnTo>
                <a:lnTo>
                  <a:pt x="22380" y="10243"/>
                </a:lnTo>
                <a:lnTo>
                  <a:pt x="21466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n foe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Uter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uring embryo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the embry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constant environment for the embryo to devel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placenta to attach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uring birth of ba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 the baby out by muscular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xual Reproduction in Hum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9880" y="1219320"/>
            <a:ext cx="9518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320" y="2209680"/>
            <a:ext cx="126576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040" y="1219320"/>
            <a:ext cx="105084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7120" y="2209680"/>
            <a:ext cx="169416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ggs (o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7280" y="3200400"/>
            <a:ext cx="11484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yg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040" y="4114800"/>
            <a:ext cx="134496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bry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7640" y="5105520"/>
            <a:ext cx="109044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6095880"/>
            <a:ext cx="933480" cy="520560"/>
          </a:xfrm>
          <a:prstGeom prst="rect">
            <a:avLst/>
          </a:prstGeom>
          <a:solidFill>
            <a:srgbClr val="316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752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1752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28954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7432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89548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7432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5638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752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752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5440" y="22860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title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2819160" cy="210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2971800"/>
            <a:ext cx="3886200" cy="2819520"/>
          </a:xfrm>
          <a:prstGeom prst="cloudCallout">
            <a:avLst>
              <a:gd name="adj1" fmla="val -57842"/>
              <a:gd name="adj2" fmla="val 6999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AD001586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106704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AD001585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78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Amniotic Flui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keep the foetus moist to prevent dess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water cushion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ort the 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ow it to move fre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sorb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t the foetus from mechanical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educe temperature fluc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lubricate the vagina during bi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placenta" descr=""/>
          <p:cNvPicPr/>
          <p:nvPr/>
        </p:nvPicPr>
        <p:blipFill>
          <a:blip r:embed="rId1"/>
          <a:stretch/>
        </p:blipFill>
        <p:spPr>
          <a:xfrm>
            <a:off x="4983120" y="28440"/>
            <a:ext cx="4160880" cy="6829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4647960" y="76212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14800" y="762120"/>
            <a:ext cx="5335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390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ygenated blood from mother’s 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419720" y="2743200"/>
            <a:ext cx="213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243828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l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72000" y="3886200"/>
            <a:ext cx="2743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58128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v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571640" y="449568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19112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723920" y="914400"/>
            <a:ext cx="3124440" cy="466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90760" y="1380960"/>
            <a:ext cx="533160" cy="600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523880"/>
            <a:ext cx="390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oxygenated blood to mother’s v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place of exchange of materials between mother and the foe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ecreting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apta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ger-like vil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ncrease the surface area for efficient dif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and foetal blood flows in opposite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peed up diffusion of materials between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capillaries and foetal blood capillaries are separated by thin membra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horten the distance of diffusion of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apta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is separated from foetal blood by capillary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high pressure of maternal blood to break the delicate foetal blood vess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harmful substances to enter the 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clotting of maternal and foetal blood if their blood groups are incompat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irth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set of lab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muscles begin to make rhythmic con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ions gradually become stronger and clo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birth10001" descr="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83" name="birth20001" descr=""/>
          <p:cNvPicPr/>
          <p:nvPr/>
        </p:nvPicPr>
        <p:blipFill>
          <a:blip r:embed="rId2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417920" y="327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irth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tion of cervix allow the head of the foetus to pass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birth30001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85800" y="762120"/>
            <a:ext cx="3657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erine contractions causes amnion to break and amniotic fluid to escape out of the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birth50001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0" name="birth40001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1" name="birth20001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85800" y="762120"/>
            <a:ext cx="38862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ular contractions push the foetus head first through the vagina, and the umbilical cord is cut and t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birth50001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4" name="birth60001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5" name="birth70001" descr=""/>
          <p:cNvPicPr/>
          <p:nvPr/>
        </p:nvPicPr>
        <p:blipFill>
          <a:blip r:embed="rId8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birth80001" descr=""/>
          <p:cNvPicPr/>
          <p:nvPr/>
        </p:nvPicPr>
        <p:blipFill>
          <a:blip r:embed="rId9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7" name="birth90001" descr=""/>
          <p:cNvPicPr/>
          <p:nvPr/>
        </p:nvPicPr>
        <p:blipFill>
          <a:blip r:embed="rId10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800" y="762120"/>
            <a:ext cx="40384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ther contractions push the placenta out of th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bir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28600" y="457200"/>
            <a:ext cx="868680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Could you surviv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fter birth without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 care of your</a:t>
            </a:r>
            <a:endParaRPr b="0" lang="en-US" sz="44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arents?</a:t>
            </a:r>
            <a:endParaRPr b="0" lang="en-US" sz="44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0" name="Z4590" descr=""/>
          <p:cNvPicPr/>
          <p:nvPr/>
        </p:nvPicPr>
        <p:blipFill>
          <a:blip r:embed="rId9"/>
          <a:stretch/>
        </p:blipFill>
        <p:spPr>
          <a:xfrm>
            <a:off x="2235240" y="668160"/>
            <a:ext cx="491652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LP00055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505320" cy="3443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ental C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crease the chance of survival of the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feeds milk to the ba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lk provides the babies with a balanced 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also contains antibodies which defend the babies against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irth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uman population increases exponent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storage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of pollution becomes more ser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growth%20of%20population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638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Male%20reproductive%20system%201" descr=""/>
          <p:cNvPicPr/>
          <p:nvPr/>
        </p:nvPicPr>
        <p:blipFill>
          <a:blip r:embed="rId1"/>
          <a:srcRect l="0" t="0" r="26380" b="0"/>
          <a:stretch/>
        </p:blipFill>
        <p:spPr>
          <a:xfrm>
            <a:off x="4038480" y="1004760"/>
            <a:ext cx="5105520" cy="5853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9000" y="6172200"/>
            <a:ext cx="1828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5680" y="5867280"/>
            <a:ext cx="9518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562720"/>
            <a:ext cx="1981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5400" y="5257800"/>
            <a:ext cx="18417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didy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191120"/>
            <a:ext cx="220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s deferens (sperm du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672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56" h="21600">
                <a:moveTo>
                  <a:pt x="17821" y="3794"/>
                </a:moveTo>
                <a:lnTo>
                  <a:pt x="31834" y="10800"/>
                </a:lnTo>
                <a:lnTo>
                  <a:pt x="1782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990720" y="1066680"/>
            <a:ext cx="7848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can we d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Using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ontracep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ethods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hythm Meth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pulation during 7 days before and after ovulation (fertile peri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rhythm%20method%201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514600" cy="4952880"/>
          </a:xfrm>
          <a:prstGeom prst="rect">
            <a:avLst/>
          </a:prstGeom>
          <a:ln w="0">
            <a:noFill/>
          </a:ln>
        </p:spPr>
      </p:pic>
      <p:pic>
        <p:nvPicPr>
          <p:cNvPr id="312" name="rhythm%20method%202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998640" cy="4952880"/>
          </a:xfrm>
          <a:prstGeom prst="rect">
            <a:avLst/>
          </a:prstGeom>
          <a:ln w="0">
            <a:noFill/>
          </a:ln>
        </p:spPr>
      </p:pic>
      <p:pic>
        <p:nvPicPr>
          <p:cNvPr id="313" name="rhythm%20method%203" descr=""/>
          <p:cNvPicPr/>
          <p:nvPr/>
        </p:nvPicPr>
        <p:blipFill>
          <a:blip r:embed="rId3"/>
          <a:stretch/>
        </p:blipFill>
        <p:spPr>
          <a:xfrm flipH="1">
            <a:off x="4114440" y="1905120"/>
            <a:ext cx="996840" cy="4952880"/>
          </a:xfrm>
          <a:prstGeom prst="rect">
            <a:avLst/>
          </a:prstGeom>
          <a:ln w="0">
            <a:noFill/>
          </a:ln>
        </p:spPr>
      </p:pic>
      <p:pic>
        <p:nvPicPr>
          <p:cNvPr id="314" name="rhythm%20method%204" descr=""/>
          <p:cNvPicPr/>
          <p:nvPr/>
        </p:nvPicPr>
        <p:blipFill>
          <a:blip r:embed="rId4"/>
          <a:stretch/>
        </p:blipFill>
        <p:spPr>
          <a:xfrm flipH="1">
            <a:off x="5105520" y="1905120"/>
            <a:ext cx="1828800" cy="4952880"/>
          </a:xfrm>
          <a:prstGeom prst="rect">
            <a:avLst/>
          </a:prstGeom>
          <a:ln w="0">
            <a:noFill/>
          </a:ln>
        </p:spPr>
      </p:pic>
      <p:pic>
        <p:nvPicPr>
          <p:cNvPr id="315" name="rhythm%20method%205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134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d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 and female co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barrier to prevent sperms from entering the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condom" descr=""/>
          <p:cNvPicPr/>
          <p:nvPr/>
        </p:nvPicPr>
        <p:blipFill>
          <a:blip r:embed="rId1"/>
          <a:stretch/>
        </p:blipFill>
        <p:spPr>
          <a:xfrm>
            <a:off x="3429000" y="3108240"/>
            <a:ext cx="5715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tted over the cerv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 used together with sperm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diaphragm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603600" cy="3733920"/>
          </a:xfrm>
          <a:prstGeom prst="rect">
            <a:avLst/>
          </a:prstGeom>
          <a:ln w="0">
            <a:noFill/>
          </a:ln>
        </p:spPr>
      </p:pic>
      <p:pic>
        <p:nvPicPr>
          <p:cNvPr id="322" name="diaphragm%202" descr=""/>
          <p:cNvPicPr/>
          <p:nvPr/>
        </p:nvPicPr>
        <p:blipFill>
          <a:blip r:embed="rId2"/>
          <a:stretch/>
        </p:blipFill>
        <p:spPr>
          <a:xfrm>
            <a:off x="4191120" y="3105000"/>
            <a:ext cx="44193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aceptive Pi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hormones which inhibit ov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taken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sid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contraceptive%20pills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6960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rgical Metho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7" name="surgical%20methods" descr=""/>
          <p:cNvPicPr/>
          <p:nvPr/>
        </p:nvPicPr>
        <p:blipFill>
          <a:blip r:embed="rId1"/>
          <a:stretch/>
        </p:blipFill>
        <p:spPr>
          <a:xfrm>
            <a:off x="0" y="2416320"/>
            <a:ext cx="9144000" cy="44416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28600" y="914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Times New Roman"/>
              </a:rPr>
              <a:t>Vas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tting and tying of sperm 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838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Times New Roman"/>
              </a:rPr>
              <a:t>Tubal 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tting and tying of ovi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male gametes (sper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male sex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pididy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emporarily storage of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opulation, muscles of epididymis contract to release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is and epididy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CS002262" descr=""/>
          <p:cNvPicPr/>
          <p:nvPr/>
        </p:nvPicPr>
        <p:blipFill>
          <a:blip r:embed="rId1"/>
          <a:stretch/>
        </p:blipFill>
        <p:spPr>
          <a:xfrm>
            <a:off x="4468680" y="990720"/>
            <a:ext cx="4675320" cy="5867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05320" y="5715000"/>
            <a:ext cx="327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1840" y="541008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rm tub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219320"/>
            <a:ext cx="2819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4960" y="9144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pididy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2666880"/>
            <a:ext cx="1143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362320"/>
            <a:ext cx="22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s deferens (sperm du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Male%20reproductive%20system%202" descr=""/>
          <p:cNvPicPr/>
          <p:nvPr/>
        </p:nvPicPr>
        <p:blipFill>
          <a:blip r:embed="rId1"/>
          <a:srcRect l="0" t="0" r="28904" b="0"/>
          <a:stretch/>
        </p:blipFill>
        <p:spPr>
          <a:xfrm>
            <a:off x="4011480" y="870120"/>
            <a:ext cx="5132520" cy="5987880"/>
          </a:xfrm>
          <a:prstGeom prst="rect">
            <a:avLst/>
          </a:prstGeom>
          <a:ln w="0">
            <a:noFill/>
          </a:ln>
        </p:spPr>
      </p:pic>
      <p:pic>
        <p:nvPicPr>
          <p:cNvPr id="154" name="Male%20reproductive%20system%203" descr=""/>
          <p:cNvPicPr/>
          <p:nvPr/>
        </p:nvPicPr>
        <p:blipFill>
          <a:blip r:embed="rId2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5" name="Male%20reproductive%20system%204" descr=""/>
          <p:cNvPicPr/>
          <p:nvPr/>
        </p:nvPicPr>
        <p:blipFill>
          <a:blip r:embed="rId3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6" name="Male%20reproductive%20system%205" descr=""/>
          <p:cNvPicPr/>
          <p:nvPr/>
        </p:nvPicPr>
        <p:blipFill>
          <a:blip r:embed="rId4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7" name="Male%20reproductive%20system%206" descr=""/>
          <p:cNvPicPr/>
          <p:nvPr/>
        </p:nvPicPr>
        <p:blipFill>
          <a:blip r:embed="rId5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8" name="Male%20reproductive%20system%207" descr=""/>
          <p:cNvPicPr/>
          <p:nvPr/>
        </p:nvPicPr>
        <p:blipFill>
          <a:blip r:embed="rId6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9" name="Male%20reproductive%20system%208" descr=""/>
          <p:cNvPicPr/>
          <p:nvPr/>
        </p:nvPicPr>
        <p:blipFill>
          <a:blip r:embed="rId7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05320" y="3429000"/>
            <a:ext cx="4572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36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minal ves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267080"/>
            <a:ext cx="2819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80988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state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5181480"/>
            <a:ext cx="2819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4647960"/>
            <a:ext cx="60948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724280"/>
            <a:ext cx="166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wper’s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97180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581280"/>
            <a:ext cx="166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rete seminal fl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Seminal Flui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medium for the sperms to sw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ctivate and nourish the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neutralize the acidity in the female reproductive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5105520"/>
            <a:ext cx="2895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per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47242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m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lui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638680"/>
            <a:ext cx="609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5181480"/>
            <a:ext cx="533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0" y="49528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m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Male%20reproductive%20system%209" descr=""/>
          <p:cNvPicPr/>
          <p:nvPr/>
        </p:nvPicPr>
        <p:blipFill>
          <a:blip r:embed="rId1"/>
          <a:srcRect l="0" t="0" r="29035" b="0"/>
          <a:stretch/>
        </p:blipFill>
        <p:spPr>
          <a:xfrm>
            <a:off x="4114800" y="874800"/>
            <a:ext cx="5029200" cy="5983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2670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ale%20reproductive%20system%2010" descr=""/>
          <p:cNvPicPr/>
          <p:nvPr/>
        </p:nvPicPr>
        <p:blipFill>
          <a:blip r:embed="rId2"/>
          <a:srcRect l="0" t="0" r="29035" b="0"/>
          <a:stretch/>
        </p:blipFill>
        <p:spPr>
          <a:xfrm>
            <a:off x="4114800" y="874800"/>
            <a:ext cx="5029200" cy="598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29000" y="4572000"/>
            <a:ext cx="1295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33412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0292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1:39:30Z</dcterms:created>
  <dc:creator>Johnson Leung</dc:creator>
  <dc:description/>
  <dc:language>en-US</dc:language>
  <cp:lastModifiedBy>Johnson Leung</cp:lastModifiedBy>
  <dcterms:modified xsi:type="dcterms:W3CDTF">1998-12-04T15:00:04Z</dcterms:modified>
  <cp:revision>30</cp:revision>
  <dc:subject/>
  <dc:title>Reproduction</dc:title>
</cp:coreProperties>
</file>